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96E-54F2-43D4-93BD-6EBFB073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853-C63E-43B8-8475-D49DE471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EA5-BF2F-48B7-84E9-4F47E7A0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56A-4168-497A-B3F6-B9AC0E7D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7D7-4924-47D8-928C-F1F7D768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984F-ADB6-4E69-962D-E621436F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407C-0EE7-469F-B753-CCCE5137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4C8B-80E2-46D9-B68A-36B958A9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91D-A4C1-4BD4-993D-3A8F8AD5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4337-5DCC-46A5-8342-B74267C3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C84E-C065-47C4-8DBC-C3EF6E55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C84-D432-4452-BA73-33090395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B6EE-28BF-430F-BA63-87E1B33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F88-369A-4F7C-B5B9-B6DE4F73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3E51-9E8B-4C5C-8E6A-CBD99ADC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70FB-7A81-40CA-BF91-B75C8F6E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9468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322320" y="2295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66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9468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322320" y="4439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3980-614D-4A4D-8AE9-03729E07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698-2096-47F9-A165-7712BCDC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CBB-78E5-453A-9541-A6D30579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0FC-1DF1-4D77-9B31-74336886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068120" y="1009800"/>
            <a:ext cx="77706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60E-D02A-4701-B688-A597268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BC5-B030-44D4-8E18-23B72318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49360" y="4439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DF9-FE4E-4CEC-8049-517C1B7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2295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439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550-A970-43FF-B5D0-28574BB7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45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0"/>
                <a:ext cx="9132840" cy="85716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0" y="19080"/>
                <a:ext cx="9105840" cy="6742080"/>
                <a:chOff x="0" y="19080"/>
                <a:chExt cx="9105840" cy="6742080"/>
              </a:xfrm>
            </p:grpSpPr>
            <p:grpSp>
              <p:nvGrpSpPr>
                <p:cNvPr id="5" name=""/>
                <p:cNvGrpSpPr/>
                <p:nvPr/>
              </p:nvGrpSpPr>
              <p:grpSpPr>
                <a:xfrm>
                  <a:off x="8373960" y="19080"/>
                  <a:ext cx="731880" cy="811080"/>
                  <a:chOff x="8373960" y="19080"/>
                  <a:chExt cx="731880" cy="811080"/>
                </a:xfrm>
              </p:grpSpPr>
              <p:sp>
                <p:nvSpPr>
                  <p:cNvPr id="6" name=""/>
                  <p:cNvSpPr/>
                  <p:nvPr/>
                </p:nvSpPr>
                <p:spPr>
                  <a:xfrm>
                    <a:off x="87105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373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901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87105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8291520" y="19080"/>
                  <a:ext cx="50760" cy="811080"/>
                  <a:chOff x="8291520" y="19080"/>
                  <a:chExt cx="50760" cy="8110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2915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82915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7535880" y="19080"/>
                  <a:ext cx="733320" cy="811080"/>
                  <a:chOff x="7535880" y="19080"/>
                  <a:chExt cx="733320" cy="81108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7873920" y="1908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75358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79516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873920" y="474840"/>
                    <a:ext cx="4788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453440" y="19080"/>
                  <a:ext cx="48960" cy="811080"/>
                  <a:chOff x="7453440" y="19080"/>
                  <a:chExt cx="48960" cy="8110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>
                    <a:off x="7453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453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6699240" y="19080"/>
                  <a:ext cx="731880" cy="811080"/>
                  <a:chOff x="6699240" y="19080"/>
                  <a:chExt cx="731880" cy="8110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70358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6992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711504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0358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" name=""/>
                <p:cNvGrpSpPr/>
                <p:nvPr/>
              </p:nvGrpSpPr>
              <p:grpSpPr>
                <a:xfrm>
                  <a:off x="6616800" y="19080"/>
                  <a:ext cx="48960" cy="811080"/>
                  <a:chOff x="6616800" y="19080"/>
                  <a:chExt cx="48960" cy="811080"/>
                </a:xfrm>
              </p:grpSpPr>
              <p:sp>
                <p:nvSpPr>
                  <p:cNvPr id="27" name=""/>
                  <p:cNvSpPr/>
                  <p:nvPr/>
                </p:nvSpPr>
                <p:spPr>
                  <a:xfrm>
                    <a:off x="6616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616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" name=""/>
                <p:cNvGrpSpPr/>
                <p:nvPr/>
              </p:nvGrpSpPr>
              <p:grpSpPr>
                <a:xfrm>
                  <a:off x="5861160" y="19080"/>
                  <a:ext cx="733320" cy="811080"/>
                  <a:chOff x="5861160" y="19080"/>
                  <a:chExt cx="733320" cy="811080"/>
                </a:xfrm>
              </p:grpSpPr>
              <p:sp>
                <p:nvSpPr>
                  <p:cNvPr id="30" name=""/>
                  <p:cNvSpPr/>
                  <p:nvPr/>
                </p:nvSpPr>
                <p:spPr>
                  <a:xfrm>
                    <a:off x="61992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58611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62769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61992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5780160" y="19080"/>
                  <a:ext cx="49320" cy="811080"/>
                  <a:chOff x="5780160" y="19080"/>
                  <a:chExt cx="49320" cy="81108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578016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578016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5024520" y="19080"/>
                  <a:ext cx="731880" cy="811080"/>
                  <a:chOff x="5024520" y="19080"/>
                  <a:chExt cx="731880" cy="81108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53611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502452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4403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3611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4943520" y="19080"/>
                  <a:ext cx="49320" cy="811080"/>
                  <a:chOff x="4943520" y="19080"/>
                  <a:chExt cx="49320" cy="8110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>
                    <a:off x="494352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494352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4186080" y="19080"/>
                  <a:ext cx="733680" cy="811080"/>
                  <a:chOff x="4186080" y="19080"/>
                  <a:chExt cx="733680" cy="811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4524480" y="1908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418608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6022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4524480" y="474840"/>
                    <a:ext cx="475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"/>
                <p:cNvGrpSpPr/>
                <p:nvPr/>
              </p:nvGrpSpPr>
              <p:grpSpPr>
                <a:xfrm>
                  <a:off x="4105440" y="19080"/>
                  <a:ext cx="48960" cy="811080"/>
                  <a:chOff x="4105440" y="19080"/>
                  <a:chExt cx="48960" cy="811080"/>
                </a:xfrm>
              </p:grpSpPr>
              <p:sp>
                <p:nvSpPr>
                  <p:cNvPr id="51" name=""/>
                  <p:cNvSpPr/>
                  <p:nvPr/>
                </p:nvSpPr>
                <p:spPr>
                  <a:xfrm>
                    <a:off x="410544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10544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"/>
                <p:cNvGrpSpPr/>
                <p:nvPr/>
              </p:nvGrpSpPr>
              <p:grpSpPr>
                <a:xfrm>
                  <a:off x="3349800" y="19080"/>
                  <a:ext cx="731520" cy="811080"/>
                  <a:chOff x="3349800" y="19080"/>
                  <a:chExt cx="731520" cy="81108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36860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33498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76560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36860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" name=""/>
                <p:cNvGrpSpPr/>
                <p:nvPr/>
              </p:nvGrpSpPr>
              <p:grpSpPr>
                <a:xfrm>
                  <a:off x="3268800" y="19080"/>
                  <a:ext cx="48960" cy="811080"/>
                  <a:chOff x="3268800" y="19080"/>
                  <a:chExt cx="48960" cy="81108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26880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326880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" name=""/>
                <p:cNvGrpSpPr/>
                <p:nvPr/>
              </p:nvGrpSpPr>
              <p:grpSpPr>
                <a:xfrm>
                  <a:off x="2511360" y="19080"/>
                  <a:ext cx="733320" cy="811080"/>
                  <a:chOff x="2511360" y="19080"/>
                  <a:chExt cx="733320" cy="81108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284940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51136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27520" y="396720"/>
                    <a:ext cx="31716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84940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2432160" y="19080"/>
                  <a:ext cx="48960" cy="811080"/>
                  <a:chOff x="2432160" y="19080"/>
                  <a:chExt cx="48960" cy="8110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243216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43216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674720" y="19080"/>
                  <a:ext cx="731880" cy="811080"/>
                  <a:chOff x="1674720" y="19080"/>
                  <a:chExt cx="731880" cy="8110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2013120" y="1908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674720" y="396720"/>
                    <a:ext cx="31608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90880" y="396720"/>
                    <a:ext cx="3157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013120" y="474840"/>
                    <a:ext cx="489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1593720" y="19080"/>
                  <a:ext cx="50760" cy="811080"/>
                  <a:chOff x="1593720" y="19080"/>
                  <a:chExt cx="50760" cy="8110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1593720" y="474840"/>
                    <a:ext cx="5076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593720" y="1908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836640" y="19080"/>
                  <a:ext cx="733320" cy="811080"/>
                  <a:chOff x="836640" y="19080"/>
                  <a:chExt cx="733320" cy="81108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117468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366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1252440" y="396720"/>
                    <a:ext cx="317520" cy="5580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117468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755640" y="19080"/>
                  <a:ext cx="49320" cy="811080"/>
                  <a:chOff x="755640" y="19080"/>
                  <a:chExt cx="49320" cy="81108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755640" y="474840"/>
                    <a:ext cx="49320" cy="35532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640" y="1908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0" y="19080"/>
                  <a:ext cx="731880" cy="6742080"/>
                  <a:chOff x="0" y="19080"/>
                  <a:chExt cx="731880" cy="674208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0" y="19080"/>
                    <a:ext cx="731880" cy="811080"/>
                    <a:chOff x="0" y="19080"/>
                    <a:chExt cx="731880" cy="81108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336600" y="47484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336600" y="190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0" y="39672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414360" y="39672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0" y="853920"/>
                    <a:ext cx="731880" cy="54000"/>
                    <a:chOff x="0" y="853920"/>
                    <a:chExt cx="731880" cy="5400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0" y="853920"/>
                      <a:ext cx="31608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414360" y="853920"/>
                      <a:ext cx="3175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0" y="930240"/>
                    <a:ext cx="731880" cy="812880"/>
                    <a:chOff x="0" y="930240"/>
                    <a:chExt cx="731880" cy="812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36600" y="93024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0" y="130968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414360" y="130968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336600" y="13892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0" y="1765440"/>
                    <a:ext cx="731880" cy="55440"/>
                    <a:chOff x="0" y="1765440"/>
                    <a:chExt cx="731880" cy="5544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0" y="176544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414360" y="176544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0" y="1844640"/>
                    <a:ext cx="731880" cy="809640"/>
                    <a:chOff x="0" y="1844640"/>
                    <a:chExt cx="731880" cy="80964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336600" y="184464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0" y="222084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4360" y="222084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6600" y="230040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0" y="2678040"/>
                    <a:ext cx="731880" cy="55800"/>
                    <a:chOff x="0" y="2678040"/>
                    <a:chExt cx="731880" cy="5580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0" y="267804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414360" y="267804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0" y="2755800"/>
                    <a:ext cx="731880" cy="812880"/>
                    <a:chOff x="0" y="2755800"/>
                    <a:chExt cx="731880" cy="81288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6600" y="27558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0" y="31338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414360" y="31338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336600" y="321156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0" y="3591000"/>
                    <a:ext cx="731880" cy="55440"/>
                    <a:chOff x="0" y="3591000"/>
                    <a:chExt cx="731880" cy="554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0" y="359100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414360" y="359100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0" y="3670200"/>
                    <a:ext cx="731880" cy="809640"/>
                    <a:chOff x="0" y="3670200"/>
                    <a:chExt cx="731880" cy="80964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36600" y="367020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0" y="4046400"/>
                      <a:ext cx="31608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414360" y="4046400"/>
                      <a:ext cx="3175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36600" y="412596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0" y="4502160"/>
                    <a:ext cx="731880" cy="57240"/>
                    <a:chOff x="0" y="4502160"/>
                    <a:chExt cx="731880" cy="5724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0" y="4502160"/>
                      <a:ext cx="31608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414360" y="4502160"/>
                      <a:ext cx="3175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0" y="4581360"/>
                    <a:ext cx="731880" cy="809640"/>
                    <a:chOff x="0" y="4581360"/>
                    <a:chExt cx="731880" cy="80964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36600" y="4581360"/>
                      <a:ext cx="5076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0" y="495936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14360" y="495936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336600" y="503712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0" y="5415120"/>
                    <a:ext cx="731880" cy="55440"/>
                    <a:chOff x="0" y="5415120"/>
                    <a:chExt cx="731880" cy="554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0" y="54151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414360" y="54151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0" y="5492880"/>
                    <a:ext cx="731880" cy="812520"/>
                    <a:chOff x="0" y="5492880"/>
                    <a:chExt cx="731880" cy="81252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36600" y="5492880"/>
                      <a:ext cx="5076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0" y="5872320"/>
                      <a:ext cx="31608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14360" y="5872320"/>
                      <a:ext cx="317520" cy="536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280" bIns="-8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36600" y="5950080"/>
                      <a:ext cx="50760" cy="3553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0" y="6327720"/>
                    <a:ext cx="731880" cy="433440"/>
                    <a:chOff x="0" y="6327720"/>
                    <a:chExt cx="731880" cy="4334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336600" y="6407280"/>
                      <a:ext cx="5076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0" y="6327720"/>
                      <a:ext cx="31608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14360" y="6327720"/>
                      <a:ext cx="3175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765000" y="857160"/>
                <a:ext cx="8367840" cy="5988240"/>
                <a:chOff x="765000" y="857160"/>
                <a:chExt cx="8367840" cy="59882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68240" y="85716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65000" y="857160"/>
                  <a:ext cx="0" cy="598824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7BB9-08C3-4B6A-B685-1BFEEF866DB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08AD-1463-4077-A1C1-7EFBF64F785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-1440"/>
            <a:ext cx="9144000" cy="6846840"/>
            <a:chOff x="-1440" y="-1440"/>
            <a:chExt cx="9144000" cy="6846840"/>
          </a:xfrm>
        </p:grpSpPr>
        <p:grpSp>
          <p:nvGrpSpPr>
            <p:cNvPr id="192" name=""/>
            <p:cNvGrpSpPr/>
            <p:nvPr/>
          </p:nvGrpSpPr>
          <p:grpSpPr>
            <a:xfrm>
              <a:off x="754200" y="932040"/>
              <a:ext cx="48960" cy="811080"/>
              <a:chOff x="754200" y="932040"/>
              <a:chExt cx="48960" cy="811080"/>
            </a:xfrm>
          </p:grpSpPr>
          <p:sp>
            <p:nvSpPr>
              <p:cNvPr id="193" name=""/>
              <p:cNvSpPr/>
              <p:nvPr/>
            </p:nvSpPr>
            <p:spPr>
              <a:xfrm>
                <a:off x="754200" y="1387440"/>
                <a:ext cx="48960" cy="3556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54200" y="932040"/>
                <a:ext cx="48960" cy="353880"/>
              </a:xfrm>
              <a:prstGeom prst="ellipse">
                <a:avLst/>
              </a:prstGeom>
              <a:solidFill>
                <a:srgbClr val="003399"/>
              </a:solidFill>
              <a:ln w="0">
                <a:noFill/>
              </a:ln>
              <a:effectLst>
                <a:outerShdw dist="17819" dir="2700000" blurRad="0" rotWithShape="0">
                  <a:srgbClr val="00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-1440" y="-1440"/>
              <a:ext cx="9144000" cy="6846840"/>
              <a:chOff x="-1440" y="-1440"/>
              <a:chExt cx="9144000" cy="684684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754200" y="17640"/>
                <a:ext cx="48960" cy="811080"/>
                <a:chOff x="754200" y="17640"/>
                <a:chExt cx="48960" cy="811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5420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20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-1440" y="-1440"/>
                <a:ext cx="9144000" cy="6846840"/>
                <a:chOff x="-1440" y="-1440"/>
                <a:chExt cx="9144000" cy="68468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0" y="0"/>
                  <a:ext cx="762120" cy="684540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-1440" y="-1440"/>
                  <a:ext cx="9144000" cy="1906560"/>
                </a:xfrm>
                <a:prstGeom prst="rect">
                  <a:avLst/>
                </a:pr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8372520" y="17640"/>
                  <a:ext cx="731880" cy="811080"/>
                  <a:chOff x="8372520" y="17640"/>
                  <a:chExt cx="731880" cy="8110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870912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372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7883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70912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8290080" y="17640"/>
                  <a:ext cx="50760" cy="811080"/>
                  <a:chOff x="8290080" y="17640"/>
                  <a:chExt cx="50760" cy="81108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2900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900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534440" y="17640"/>
                  <a:ext cx="733320" cy="811080"/>
                  <a:chOff x="7534440" y="17640"/>
                  <a:chExt cx="733320" cy="8110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7872480" y="176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534440" y="3952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79502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872480" y="4730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451640" y="17640"/>
                  <a:ext cx="49320" cy="811080"/>
                  <a:chOff x="7451640" y="17640"/>
                  <a:chExt cx="49320" cy="8110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7451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451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6697800" y="17640"/>
                  <a:ext cx="731880" cy="811080"/>
                  <a:chOff x="6697800" y="17640"/>
                  <a:chExt cx="731880" cy="811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340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69780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1136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40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6615000" y="17640"/>
                  <a:ext cx="49320" cy="811080"/>
                  <a:chOff x="6615000" y="17640"/>
                  <a:chExt cx="49320" cy="8110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6615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615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5859360" y="17640"/>
                  <a:ext cx="733680" cy="811080"/>
                  <a:chOff x="5859360" y="17640"/>
                  <a:chExt cx="733680" cy="81108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197760" y="176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5936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755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197760" y="4730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778360" y="17640"/>
                  <a:ext cx="49320" cy="811080"/>
                  <a:chOff x="5778360" y="17640"/>
                  <a:chExt cx="49320" cy="811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778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778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022720" y="17640"/>
                  <a:ext cx="731880" cy="811080"/>
                  <a:chOff x="5022720" y="17640"/>
                  <a:chExt cx="731880" cy="8110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535932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02272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4388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35932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4941720" y="17640"/>
                  <a:ext cx="49320" cy="811080"/>
                  <a:chOff x="4941720" y="17640"/>
                  <a:chExt cx="49320" cy="8110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9417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9417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4184640" y="17640"/>
                  <a:ext cx="733320" cy="811080"/>
                  <a:chOff x="4184640" y="17640"/>
                  <a:chExt cx="733320" cy="8110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522680" y="176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1846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60044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522680" y="4730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4103640" y="17640"/>
                  <a:ext cx="49320" cy="811080"/>
                  <a:chOff x="4103640" y="17640"/>
                  <a:chExt cx="49320" cy="811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410364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10364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348000" y="17640"/>
                  <a:ext cx="731880" cy="811080"/>
                  <a:chOff x="3348000" y="17640"/>
                  <a:chExt cx="731880" cy="8110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846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3480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76380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6846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267000" y="17640"/>
                  <a:ext cx="49320" cy="811080"/>
                  <a:chOff x="3267000" y="17640"/>
                  <a:chExt cx="49320" cy="8110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6700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26700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2509920" y="17640"/>
                  <a:ext cx="733320" cy="811080"/>
                  <a:chOff x="2509920" y="17640"/>
                  <a:chExt cx="733320" cy="811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28479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5099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925720" y="3952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8479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2430360" y="17640"/>
                  <a:ext cx="49320" cy="811080"/>
                  <a:chOff x="2430360" y="17640"/>
                  <a:chExt cx="49320" cy="8110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243036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43036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1673280" y="17640"/>
                  <a:ext cx="731880" cy="811080"/>
                  <a:chOff x="1673280" y="17640"/>
                  <a:chExt cx="731880" cy="8110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2011320" y="176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673280" y="3952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089080" y="3952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011320" y="4730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1592280" y="17640"/>
                  <a:ext cx="50760" cy="811080"/>
                  <a:chOff x="1592280" y="17640"/>
                  <a:chExt cx="50760" cy="8110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1592280" y="4730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92280" y="176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1173240" y="17640"/>
                  <a:ext cx="48960" cy="3538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35200" y="3952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251000" y="3952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173240" y="473040"/>
                  <a:ext cx="48960" cy="35568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-1440" y="17640"/>
                  <a:ext cx="731520" cy="6742080"/>
                  <a:chOff x="-1440" y="17640"/>
                  <a:chExt cx="731520" cy="674208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-1440" y="17640"/>
                    <a:ext cx="731520" cy="811080"/>
                    <a:chOff x="-1440" y="17640"/>
                    <a:chExt cx="731520" cy="8110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334800" y="47304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334800" y="176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-1440" y="395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12920" y="395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-1440" y="852480"/>
                    <a:ext cx="731520" cy="54000"/>
                    <a:chOff x="-1440" y="852480"/>
                    <a:chExt cx="731520" cy="5400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-1440" y="85248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12920" y="85248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-1440" y="928800"/>
                    <a:ext cx="731520" cy="812520"/>
                    <a:chOff x="-1440" y="928800"/>
                    <a:chExt cx="731520" cy="81252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34800" y="92880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-1440" y="130824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412920" y="130824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34800" y="138744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-1440" y="1763640"/>
                    <a:ext cx="731520" cy="55800"/>
                    <a:chOff x="-1440" y="1763640"/>
                    <a:chExt cx="731520" cy="5580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-1440" y="176364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412920" y="176364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-1440" y="1843200"/>
                    <a:ext cx="731520" cy="809640"/>
                    <a:chOff x="-1440" y="1843200"/>
                    <a:chExt cx="731520" cy="80964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334800" y="184320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-1440" y="2219400"/>
                      <a:ext cx="31572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412920" y="2219400"/>
                      <a:ext cx="317160" cy="57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334800" y="229860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-1440" y="2676600"/>
                    <a:ext cx="731520" cy="55440"/>
                    <a:chOff x="-1440" y="2676600"/>
                    <a:chExt cx="731520" cy="5544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-1440" y="267660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412920" y="267660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-1440" y="2754360"/>
                    <a:ext cx="731520" cy="812880"/>
                    <a:chOff x="-1440" y="2754360"/>
                    <a:chExt cx="731520" cy="812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34800" y="27543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-1440" y="31320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412920" y="31320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34800" y="3209760"/>
                      <a:ext cx="51120" cy="3574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-1440" y="3589200"/>
                    <a:ext cx="731520" cy="55800"/>
                    <a:chOff x="-1440" y="3589200"/>
                    <a:chExt cx="731520" cy="5580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-1440" y="3589200"/>
                      <a:ext cx="31572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412920" y="3589200"/>
                      <a:ext cx="317160" cy="558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-1440" y="3668760"/>
                    <a:ext cx="731520" cy="809640"/>
                    <a:chOff x="-1440" y="3668760"/>
                    <a:chExt cx="731520" cy="8096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334800" y="366876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-1440" y="404496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12920" y="404496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34800" y="412416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-1440" y="4500720"/>
                    <a:ext cx="731520" cy="56880"/>
                    <a:chOff x="-1440" y="4500720"/>
                    <a:chExt cx="731520" cy="5688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-1440" y="4500720"/>
                      <a:ext cx="31572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12920" y="4500720"/>
                      <a:ext cx="317160" cy="56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-1440" y="4579920"/>
                    <a:ext cx="731520" cy="809640"/>
                    <a:chOff x="-1440" y="4579920"/>
                    <a:chExt cx="731520" cy="80964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4800" y="457992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-1440" y="49579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12920" y="49579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34800" y="5035680"/>
                      <a:ext cx="51120" cy="3538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-1440" y="5413320"/>
                    <a:ext cx="731520" cy="55440"/>
                    <a:chOff x="-1440" y="5413320"/>
                    <a:chExt cx="731520" cy="554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-1440" y="541332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12920" y="541332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-1440" y="5491080"/>
                    <a:ext cx="731520" cy="812880"/>
                    <a:chOff x="-1440" y="5491080"/>
                    <a:chExt cx="731520" cy="8128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4800" y="5491080"/>
                      <a:ext cx="51120" cy="35712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-1440" y="5870520"/>
                      <a:ext cx="31572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12920" y="5870520"/>
                      <a:ext cx="317160" cy="5400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334800" y="5948280"/>
                      <a:ext cx="51120" cy="35568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-1440" y="6326280"/>
                    <a:ext cx="731520" cy="433440"/>
                    <a:chOff x="-1440" y="6326280"/>
                    <a:chExt cx="731520" cy="43344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34800" y="6405480"/>
                      <a:ext cx="51120" cy="3542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-1440" y="6326280"/>
                      <a:ext cx="31572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412920" y="6326280"/>
                      <a:ext cx="317160" cy="55440"/>
                    </a:xfrm>
                    <a:prstGeom prst="ellipse">
                      <a:avLst/>
                    </a:prstGeom>
                    <a:solidFill>
                      <a:srgbClr val="003399"/>
                    </a:solidFill>
                    <a:ln w="0">
                      <a:noFill/>
                    </a:ln>
                    <a:effectLst>
                      <a:outerShdw dist="17819" dir="2700000" blurRad="0" rotWithShape="0">
                        <a:srgbClr val="001e5b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0" bIns="-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ddddd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8372520" y="932040"/>
                  <a:ext cx="731880" cy="811080"/>
                  <a:chOff x="8372520" y="932040"/>
                  <a:chExt cx="731880" cy="8110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870912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8372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7883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70912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290080" y="932040"/>
                  <a:ext cx="50760" cy="811080"/>
                  <a:chOff x="8290080" y="932040"/>
                  <a:chExt cx="50760" cy="8110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82900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2900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534440" y="932040"/>
                  <a:ext cx="733320" cy="811080"/>
                  <a:chOff x="7534440" y="932040"/>
                  <a:chExt cx="733320" cy="8110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7872480" y="932040"/>
                    <a:ext cx="475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53444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9502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872480" y="1387440"/>
                    <a:ext cx="475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451640" y="932040"/>
                  <a:ext cx="49320" cy="811080"/>
                  <a:chOff x="7451640" y="932040"/>
                  <a:chExt cx="49320" cy="81108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7451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7451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6697800" y="932040"/>
                  <a:ext cx="731880" cy="811080"/>
                  <a:chOff x="6697800" y="932040"/>
                  <a:chExt cx="731880" cy="81108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70340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9780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1136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70340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615000" y="932040"/>
                  <a:ext cx="49320" cy="811080"/>
                  <a:chOff x="6615000" y="932040"/>
                  <a:chExt cx="49320" cy="8110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6615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615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859360" y="932040"/>
                  <a:ext cx="733680" cy="811080"/>
                  <a:chOff x="5859360" y="932040"/>
                  <a:chExt cx="733680" cy="81108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619776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85936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2755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19776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778360" y="932040"/>
                  <a:ext cx="49320" cy="811080"/>
                  <a:chOff x="5778360" y="932040"/>
                  <a:chExt cx="49320" cy="8110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778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778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5022720" y="932040"/>
                  <a:ext cx="731880" cy="811080"/>
                  <a:chOff x="5022720" y="932040"/>
                  <a:chExt cx="731880" cy="8110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35932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02272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4388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35932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4941720" y="932040"/>
                  <a:ext cx="49320" cy="811080"/>
                  <a:chOff x="4941720" y="932040"/>
                  <a:chExt cx="49320" cy="8110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49417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49417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4184640" y="932040"/>
                  <a:ext cx="733320" cy="811080"/>
                  <a:chOff x="4184640" y="932040"/>
                  <a:chExt cx="733320" cy="8110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522680" y="932040"/>
                    <a:ext cx="4788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1846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60044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522680" y="1387440"/>
                    <a:ext cx="4788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4103640" y="932040"/>
                  <a:ext cx="49320" cy="811080"/>
                  <a:chOff x="4103640" y="932040"/>
                  <a:chExt cx="49320" cy="81108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410364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0364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3348000" y="932040"/>
                  <a:ext cx="731880" cy="811080"/>
                  <a:chOff x="3348000" y="932040"/>
                  <a:chExt cx="731880" cy="8110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6846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3480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76380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6846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3267000" y="932040"/>
                  <a:ext cx="49320" cy="811080"/>
                  <a:chOff x="3267000" y="932040"/>
                  <a:chExt cx="49320" cy="8110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326700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26700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2509920" y="932040"/>
                  <a:ext cx="733320" cy="811080"/>
                  <a:chOff x="2509920" y="932040"/>
                  <a:chExt cx="733320" cy="8110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28479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5099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92572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8479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2430360" y="932040"/>
                  <a:ext cx="49320" cy="811080"/>
                  <a:chOff x="2430360" y="932040"/>
                  <a:chExt cx="49320" cy="8110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243036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43036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1673280" y="932040"/>
                  <a:ext cx="731880" cy="811080"/>
                  <a:chOff x="1673280" y="932040"/>
                  <a:chExt cx="731880" cy="8110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2011320" y="932040"/>
                    <a:ext cx="4932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673280" y="1309680"/>
                    <a:ext cx="3157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089080" y="1309680"/>
                    <a:ext cx="31608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11320" y="1387440"/>
                    <a:ext cx="4932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1592280" y="932040"/>
                  <a:ext cx="50760" cy="811080"/>
                  <a:chOff x="1592280" y="932040"/>
                  <a:chExt cx="50760" cy="8110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1592280" y="1387440"/>
                    <a:ext cx="507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592280" y="932040"/>
                    <a:ext cx="507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835200" y="932040"/>
                  <a:ext cx="733320" cy="811080"/>
                  <a:chOff x="835200" y="932040"/>
                  <a:chExt cx="733320" cy="8110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173240" y="932040"/>
                    <a:ext cx="48960" cy="3538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35200" y="1309680"/>
                    <a:ext cx="31716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251000" y="1309680"/>
                    <a:ext cx="317520" cy="5544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173240" y="1387440"/>
                    <a:ext cx="48960" cy="355680"/>
                  </a:xfrm>
                  <a:prstGeom prst="ellipse">
                    <a:avLst/>
                  </a:prstGeom>
                  <a:solidFill>
                    <a:srgbClr val="0033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1e5b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ddddd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" name=""/>
                <p:cNvSpPr/>
                <p:nvPr/>
              </p:nvSpPr>
              <p:spPr>
                <a:xfrm>
                  <a:off x="835200" y="852480"/>
                  <a:ext cx="31716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251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79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0988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5178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368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559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7749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194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134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324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4514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8705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2895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7086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2800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54704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96608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838512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8804160" y="852480"/>
                  <a:ext cx="317520" cy="5544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835200" y="1771560"/>
                  <a:ext cx="31716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251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679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0988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5178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9368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3559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7749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194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6134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324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4514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705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2895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7086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12800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54704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96608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38512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804160" y="1771560"/>
                  <a:ext cx="317520" cy="55800"/>
                </a:xfrm>
                <a:prstGeom prst="ellipse">
                  <a:avLst/>
                </a:prstGeom>
                <a:solidFill>
                  <a:srgbClr val="003399"/>
                </a:solidFill>
                <a:ln w="0">
                  <a:noFill/>
                </a:ln>
                <a:effectLst>
                  <a:outerShdw dist="17819" dir="2700000" blurRad="0" rotWithShape="0">
                    <a:srgbClr val="001e5b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763560" y="1905120"/>
                <a:ext cx="8367840" cy="4938480"/>
                <a:chOff x="763560" y="1905120"/>
                <a:chExt cx="8367840" cy="4938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766800" y="1905120"/>
                  <a:ext cx="8364600" cy="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3560" y="1905120"/>
                  <a:ext cx="0" cy="4938480"/>
                </a:xfrm>
                <a:prstGeom prst="line">
                  <a:avLst/>
                </a:prstGeom>
                <a:ln w="1260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dddd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 Tell The Good Ne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Quarter 11, Lesson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cts 1:1 – 2: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ages 11-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2081160" cy="31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A7FF-9DE7-4AF7-B925-01CC9DA6065A}" type="slidenum">
              <a:t>1</a:t>
            </a:fld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ostleship Not Handed Dow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postles were Witnesses of Jesus and filled a limited, but foundational ne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re were no “successors” appointed by the chur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re are no living apostles toda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re was no “pope” then, nor was such an office handed down by divine authorit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257-594A-4288-83CD-9906666DD44A}" type="slidenum">
              <a:t>10</a:t>
            </a:fld>
          </a:p>
        </p:txBody>
      </p:sp>
    </p:spTree>
  </p:cSld>
  <p:transition>
    <p:cut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ay of Pentec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0 days after Passover – Lev. 23:1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east of Weeks followed Passove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(Num. 28:26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ounted Seven Sabbaths (49 days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Day after of the Seventh Sabbath was the 5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day  (falling on the first day of the week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is feast typified the Harvest of souls that would take pla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30D-2B16-4C90-9BE4-1725DBAB4B91}" type="slidenum">
              <a:t>11</a:t>
            </a:fld>
          </a:p>
        </p:txBody>
      </p:sp>
    </p:spTree>
  </p:cSld>
  <p:transition>
    <p:cut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postles Are Filled With The Holy Spirit (Acts 2:1-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41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Holy Spirit did not fall on the 1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mised only to the 12 – Acts 1:2-5,8; John 14-1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pronoun “they” refers back to the apostles, including Matthias (1:26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nly apostles worked miracles until Acts 6:8  - See 2:14,43; 3:1-10; 4:33; 5:1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A5F-67EC-4380-BFE7-63A661387F8D}" type="slidenum">
              <a:t>12</a:t>
            </a:fld>
          </a:p>
        </p:txBody>
      </p:sp>
    </p:spTree>
  </p:cSld>
  <p:transition>
    <p:cut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postles Are Filled With The Holy Spirit (Acts 2:1-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41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ose speaking in miraculous tongues were “Galileans” (2:7) – The whole group of 120 were not all Galilea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eter stood up with the eleven (2:14), not with the 119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us, the miraculous outpouring was upon the 12 apostl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DD0-08F5-4111-B04C-3E41D4DED9C1}" type="slidenum">
              <a:t>13</a:t>
            </a:fld>
          </a:p>
        </p:txBody>
      </p:sp>
    </p:spTree>
  </p:cSld>
  <p:transition>
    <p:cut thruBlk="true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Work Begi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ummary of Acts 1-1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gospel spread from the city of Jerusale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o the whole eastern shore of the Mediterranea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CBC-A056-4957-B67D-BD5DE2FE4F8F}" type="slidenum">
              <a:t>2</a:t>
            </a:fld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Gospel in Jerusa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3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cts 1:1 – 8: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Prologue - 1:1-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Luke describes his work as the second volume of a two-volume work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Which he has dedicated to Theophilus – A Gentile ruler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ny infallible proofs” had been offered for the case for Jesus Christ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The case had been more than sufficiently strong in evidence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58B-483F-45AC-BB2A-6E34259D1F3D}" type="slidenum">
              <a:t>3</a:t>
            </a:fld>
          </a:p>
        </p:txBody>
      </p:sp>
    </p:spTree>
  </p:cSld>
  <p:transition>
    <p:cut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minders of the Coming Work of the Holy Spiri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2295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Holy Spirit woul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bide with the apostle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each them all things they did not yet know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ring to their remembrance the things Jesus had taugh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estify of Jesu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uide them into all truth (John 14:16-17,26; 15:26; 16:7-15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04B-00EA-4CBD-8B1C-2E96B0609122}" type="slidenum">
              <a:t>4</a:t>
            </a:fld>
          </a:p>
        </p:txBody>
      </p:sp>
    </p:spTree>
  </p:cSld>
  <p:transition>
    <p:cut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Question about the Kingdo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apostles asked about a restoring of the kingdom to Isra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y would learn that it was a spiritual kingdo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Holy Spirit would help them piece together the meanings of Jesus’ parables of the kingdom and understand that the church is the true Israel of Go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F0D-C0B8-49E9-B5DB-66397D9571CE}" type="slidenum">
              <a:t>5</a:t>
            </a:fld>
          </a:p>
        </p:txBody>
      </p:sp>
    </p:spTree>
  </p:cSld>
  <p:transition>
    <p:cut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Apostles Would Be Adequate Witness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2295360"/>
            <a:ext cx="358164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 Jerusal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 Jude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n Samari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 the uttermost part of the eart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47242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3733920" y="2666880"/>
            <a:ext cx="2590560" cy="2438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48120" y="3200400"/>
            <a:ext cx="2666880" cy="167652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29000" y="3809880"/>
            <a:ext cx="2743200" cy="45720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A7D-9414-43F3-992F-4DA7B00B3C7B}" type="slidenum">
              <a:t>6</a:t>
            </a:fld>
          </a:p>
        </p:txBody>
      </p:sp>
    </p:spTree>
  </p:cSld>
  <p:transition>
    <p:cut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Ascension (Acts 1:6-1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sus ascended to heaven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angels said He would return some day in like manner as He lef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e disciples remained in Jerusalem waiting the fulfillment of the giving of the Holy Spir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D8B-55E1-4D98-BA7D-4EF5E5FD1733}" type="slidenum">
              <a:t>7</a:t>
            </a:fld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Disciples Tarry in Jerusalem (Acts 1:12-1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381024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Eleven Apostle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eter, Andrew, James, John, Philip, Bartholomew, Thomas, Matthew, James, Thaddeus, Sim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28840" y="2295360"/>
            <a:ext cx="380988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120 consisted of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apost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Mary, Jesus’ moth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is brother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aithful wom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ntimate discip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(Among these a replacement for Judas would be chosen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274-7DC4-467B-AFAA-5EF5EEC70083}" type="slidenum">
              <a:t>8</a:t>
            </a:fld>
          </a:p>
        </p:txBody>
      </p:sp>
    </p:spTree>
  </p:cSld>
  <p:transition>
    <p:cut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8120" y="1009800"/>
            <a:ext cx="77706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hoosing of Matthias (Acts 1:15-26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680" y="229536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quirements for the new apostl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een with us since John’s baptis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 witness of the resurrected Jesu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wo Qualified Men Set Fort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oseph Barsaba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atthias – who became divinely chos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866-7D18-481D-8D60-4E8F947A2A3D}" type="slidenum">
              <a:t>9</a:t>
            </a:fld>
          </a:p>
        </p:txBody>
      </p:sp>
    </p:spTree>
  </p:cSld>
  <p:transition>
    <p:cut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5:12:27Z</dcterms:created>
  <dc:creator> Tab Vines</dc:creator>
  <dc:description/>
  <dc:language>en-US</dc:language>
  <cp:lastModifiedBy>Frank D Vines</cp:lastModifiedBy>
  <dcterms:modified xsi:type="dcterms:W3CDTF">2007-01-07T14:51:42Z</dcterms:modified>
  <cp:revision>7</cp:revision>
  <dc:subject/>
  <dc:title>Go Tell The Good News</dc:title>
</cp:coreProperties>
</file>